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4608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0EC8-C5C5-466D-BC20-95DFD36E8B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F321-F314-4CCA-BD52-A1460A46B3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EE7B-ED67-4F37-AA3D-03223530A8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F938-E897-4DF5-8BA6-367DA13C0B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CE19-5F57-4795-BCFD-4D24483632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9ED0-8332-4FBC-9C0C-29AD2578E1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72E1-7E6C-4E77-92CD-546CFD04CD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D6F0-BA70-4FA9-8AC5-746126E1BC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E270-F4B5-443E-82D8-386C8910BC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9A33-C2B9-489C-9C9C-3A20512624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56A7-F9D6-4C42-81CE-7B88A47E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BC7-74D4-4936-9E28-38A62D7B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395-DB43-404E-BE03-5E080931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EAC3-3B7B-4D2F-BDEB-1B00F1E1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DB2E-8AD7-41FF-B69A-EECFB4E4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609D-E7E6-42BE-86BF-83CC3009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45FB-F848-4792-B886-9805E0ED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A102-DDBD-4107-926E-A5E5E2A7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DFB8-986F-420D-A050-B6BB6217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DC2F-9A58-482E-A104-ED991F10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C2AD-6443-4281-ACFA-EF7A8650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27D-8FE2-450F-A9E7-BB7C1799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A2B6-5A29-454E-84F9-8DE90427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CA63-5F55-48F9-B23D-E489C6DF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FB4F-21C5-449B-8773-AE3E608C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A259-11B4-49DE-A24A-7B1793C1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2004-3B50-4FB5-A0F1-79FE7E74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FD5C3-03ED-4D32-9065-D6B03B4A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5C921-A6A1-4876-BA6C-7DA2E688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F2866-FC59-4E94-A365-44F8C152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BD89E-3282-4CC7-A58E-D1F2E063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9BCFB-51D1-4008-BEC3-09A38FD3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522-CDBF-44C0-80E8-69F46DCF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001F0-F8B3-48CE-9C46-75DC01D2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36CC4-89C7-4687-AE62-4B8DE577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F5F92-8818-4C38-9471-D04D17A9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A490F-8339-482F-8871-3D85DC97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084CA-2CF3-4AD4-B3B4-DF2085D2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35EBA-D183-46A8-98AA-1AAE4E88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B7E52-B623-41D0-BCC8-19361ED9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0B83B-BF98-4EAF-9D7F-D8CF73C3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FEB35-1AA1-45DB-B306-681165A9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13517-5057-4316-ADB0-2FE82075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F16-D91A-418A-8EF5-3FEA9A6A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3986A-E2A4-4B0B-A564-3C71C9FB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7ADE2-63F6-4910-BE15-B37F327A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287FD-473F-4091-AD42-7152704A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63B22-659A-47E3-ADA2-A141592F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0FBAC-F965-47E0-A250-B26690F2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0096A-45E3-447D-8BDC-30036BC3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1F680-3067-46D2-A22D-FF24FC90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59CF0-822D-46BE-81A8-EF4A4011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4D8BD-0B6D-45BA-B675-9DD0B5A4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ADD61-3CF1-4078-AE24-3BB7C069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5F7-5A5D-49DD-9AF0-46FA400C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22621-B5BE-4909-B480-2F0F46A5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67CCB-8945-4079-8B01-90B27FCF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6E287-FC33-455A-A24C-2597C8B7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2B2A7-3C3A-44FC-A52B-A104F0DB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86DBA-2A97-4AC2-B07A-6CA9D9F0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27F51-3612-488B-AF76-B7438EB2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A07AC-27E6-4EFE-B338-DDF8743B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7D1EB-4873-4658-A8F3-7324F44C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A40C1-5BF0-4B58-BDFE-13094899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DC7E5-96DC-4127-B3F8-2FFBE2C7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377-E933-4CC9-A21A-3DDB61D1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1951D-3640-4FBC-99D4-D4897340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A46C4-F7CF-4B0F-811C-36CA5DA7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9D5CE-F9F2-4DD7-A637-78ACAF42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DD5D9-FAD1-42D2-8353-14BE909B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D2B28-5FD6-4930-81C4-3B2A4927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BF836-D783-4CD6-8B71-5F6BC03F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0F1AA-9C38-4EF1-80E8-87E81EC0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EE4B9-051E-4550-B16F-6429BE24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2296A-0DD9-418E-A82E-7F6F8E26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82CFD-2461-4830-8ACD-291D4BB4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4F8-B704-4D2B-8FFB-C43F78F4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55C5F-45A9-4467-B8B6-78359200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71993-F686-4128-85B7-1973FB96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112AA-A6DC-4FA6-A98E-DCE8BBA5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43E-0A55-478C-9D2E-81E0A8B8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D45-7138-4BFC-99D3-5F4E24EF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51A1-DFEF-4B12-B552-0B13B22E71B1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2677-BEBE-4534-8F58-76EDF43BE97C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C0FB-2DED-4818-9B07-9617F5004D5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3CA4-F402-4E72-9CA4-51809997137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D496-F3F0-4563-9657-4AFE17C3A2E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780C-C88F-430E-85EC-E53728F81E7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Q&amp;As on</a:t>
            </a: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AIR technical template and reporting on results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6 December 2015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B996-CA17-4E30-86D3-0A9DD5C1D290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Reporting on results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 priority for all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Rural development well prepared!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CMES developed with MS/stakeholders over 4 yea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Designed to demonstrate results at RDP and EU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nitoring and evaluation combine to show full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96DC-3029-442B-86AB-080590EE3B2D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Simplification of result reporting for 2014-2020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umber of indicators reduced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ll target indicator values obtained from simple monitoring dat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re complex result indicators addressed through evalu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"Standard" AIR based only on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1</a:t>
            </a:r>
            <a:r>
              <a:rPr b="1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 evaluation assessment in AIR 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49FA-30B5-4B04-ACEE-CF932A13A387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nnual result reporting (Standard AIR)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Target indicator values per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om monitoring da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hows achievements/progress to targ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nly programmed operations (primary effec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dditional contributions to Focus Area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penditure on operations flagged as having a secondary contribu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ve: only an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+ve: no new data or analysis, simple data extra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lance/proportiona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o new requirement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2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A9DA-BC22-476A-8048-18020139C4A9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context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Need to show full extent of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In reality many operations contribute to more than one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Too complex to capture from simple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6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F37A-3B5E-4F47-BAA3-E63914AD81C1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solution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Multiple contributions to target indicators "built-in" for Priority 4 and parts of Priority 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Captured through monito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For other Focus Areas, operations are "flagged" when encoded in the Operations Databas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Allows evaluators to identify relevant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Discussed in ExCo, Expert group mee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Evaluators will quantify secondary contributions, and complementary result indicators, for the enhanced AI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Task shifted from 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Not required every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0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68DC-74B3-4930-BA9A-EA784772A14D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Flagging of secondary contributi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05" name="Picture 2" descr=""/>
          <p:cNvPicPr/>
          <p:nvPr/>
        </p:nvPicPr>
        <p:blipFill>
          <a:blip r:embed="rId1"/>
          <a:srcRect l="29791" t="7505" r="37096" b="79746"/>
          <a:stretch/>
        </p:blipFill>
        <p:spPr>
          <a:xfrm>
            <a:off x="66600" y="1484280"/>
            <a:ext cx="6677280" cy="1403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2"/>
          <a:srcRect l="30486" t="71123" r="37106" b="3433"/>
          <a:stretch/>
        </p:blipFill>
        <p:spPr>
          <a:xfrm>
            <a:off x="208080" y="2860560"/>
            <a:ext cx="6535800" cy="2800440"/>
          </a:xfrm>
          <a:prstGeom prst="rect">
            <a:avLst/>
          </a:prstGeom>
          <a:ln w="0">
            <a:noFill/>
          </a:ln>
        </p:spPr>
      </p:pic>
      <p:sp>
        <p:nvSpPr>
          <p:cNvPr id="307" name="Oval 1"/>
          <p:cNvSpPr/>
          <p:nvPr/>
        </p:nvSpPr>
        <p:spPr>
          <a:xfrm>
            <a:off x="4541760" y="4627440"/>
            <a:ext cx="1584360" cy="57636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08" name="Straight Arrow Connector 3"/>
          <p:cNvCxnSpPr>
            <a:stCxn id="307" idx="7"/>
          </p:cNvCxnSpPr>
          <p:nvPr/>
        </p:nvCxnSpPr>
        <p:spPr>
          <a:xfrm flipV="1">
            <a:off x="5893920" y="4627080"/>
            <a:ext cx="118440" cy="84960"/>
          </a:xfrm>
          <a:prstGeom prst="straightConnector1">
            <a:avLst/>
          </a:prstGeom>
          <a:ln w="0">
            <a:noFill/>
          </a:ln>
        </p:spPr>
      </p:cxnSp>
      <p:sp>
        <p:nvSpPr>
          <p:cNvPr id="309" name="TextBox 6"/>
          <p:cNvSpPr/>
          <p:nvPr/>
        </p:nvSpPr>
        <p:spPr>
          <a:xfrm>
            <a:off x="6743880" y="1628640"/>
            <a:ext cx="2400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If nature of operations is known, no need to go at application level, whole set of operations simil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0" name="Straight Arrow Connector 8"/>
          <p:cNvCxnSpPr>
            <a:stCxn id="307" idx="7"/>
            <a:endCxn id="309" idx="1"/>
          </p:cNvCxnSpPr>
          <p:nvPr/>
        </p:nvCxnSpPr>
        <p:spPr>
          <a:xfrm flipV="1">
            <a:off x="5894280" y="2320200"/>
            <a:ext cx="850320" cy="239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Oval 16"/>
          <p:cNvSpPr/>
          <p:nvPr/>
        </p:nvSpPr>
        <p:spPr>
          <a:xfrm>
            <a:off x="4419720" y="5153040"/>
            <a:ext cx="2350800" cy="72864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TextBox 17"/>
          <p:cNvSpPr/>
          <p:nvPr/>
        </p:nvSpPr>
        <p:spPr>
          <a:xfrm>
            <a:off x="6831000" y="4627440"/>
            <a:ext cx="240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where nature is not known in advance, coded on processing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3" name="Straight Arrow Connector 11"/>
          <p:cNvCxnSpPr>
            <a:stCxn id="311" idx="7"/>
            <a:endCxn id="312" idx="1"/>
          </p:cNvCxnSpPr>
          <p:nvPr/>
        </p:nvCxnSpPr>
        <p:spPr>
          <a:xfrm flipV="1">
            <a:off x="6426360" y="4997160"/>
            <a:ext cx="405360" cy="2620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sp>
        <p:nvSpPr>
          <p:cNvPr id="314" name="Rectangle 2"/>
          <p:cNvSpPr/>
          <p:nvPr/>
        </p:nvSpPr>
        <p:spPr>
          <a:xfrm>
            <a:off x="5334120" y="1484280"/>
            <a:ext cx="1685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738C-CE12-4195-A10D-E008D8635DF8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Capturing secondary contribuit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376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gnoring secondary effects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leads to  underestimation of RDP achievement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687240" y="3159000"/>
            <a:ext cx="7413840" cy="3380040"/>
          </a:xfrm>
          <a:prstGeom prst="rect">
            <a:avLst/>
          </a:prstGeom>
          <a:ln w="0">
            <a:noFill/>
          </a:ln>
        </p:spPr>
      </p:pic>
      <p:sp>
        <p:nvSpPr>
          <p:cNvPr id="320" name="Oval 1"/>
          <p:cNvSpPr/>
          <p:nvPr/>
        </p:nvSpPr>
        <p:spPr>
          <a:xfrm>
            <a:off x="1474920" y="5084640"/>
            <a:ext cx="1009440" cy="8654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2843280" y="3357720"/>
            <a:ext cx="2200320" cy="2158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Oval 11"/>
          <p:cNvSpPr/>
          <p:nvPr/>
        </p:nvSpPr>
        <p:spPr>
          <a:xfrm>
            <a:off x="6732720" y="5192640"/>
            <a:ext cx="1008000" cy="8636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23" name="Straight Arrow Connector 3"/>
          <p:cNvCxnSpPr/>
          <p:nvPr/>
        </p:nvCxnSpPr>
        <p:spPr>
          <a:xfrm>
            <a:off x="5043600" y="4581000"/>
            <a:ext cx="969120" cy="14756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Straight Arrow Connector 15"/>
          <p:cNvCxnSpPr/>
          <p:nvPr/>
        </p:nvCxnSpPr>
        <p:spPr>
          <a:xfrm flipH="1">
            <a:off x="5218920" y="5568840"/>
            <a:ext cx="1513800" cy="488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Straight Arrow Connector 17"/>
          <p:cNvCxnSpPr>
            <a:stCxn id="320" idx="2"/>
          </p:cNvCxnSpPr>
          <p:nvPr/>
        </p:nvCxnSpPr>
        <p:spPr>
          <a:xfrm>
            <a:off x="1474560" y="5516640"/>
            <a:ext cx="1080" cy="434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Straight Arrow Connector 23"/>
          <p:cNvCxnSpPr/>
          <p:nvPr/>
        </p:nvCxnSpPr>
        <p:spPr>
          <a:xfrm>
            <a:off x="2406240" y="5392440"/>
            <a:ext cx="2431080" cy="8406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5-11-17T11:17:17Z</cp:lastPrinted>
  <dcterms:modified xsi:type="dcterms:W3CDTF">2015-12-16T14:01:26Z</dcterms:modified>
  <cp:revision>477</cp:revision>
  <dc:subject/>
  <dc:title>Slide 1</dc:title>
</cp:coreProperties>
</file>